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12.png" ContentType="image/png"/>
  <Override PartName="/ppt/media/image11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F745-DF76-447F-8B9E-F4C5E9F5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52B5-5E99-436A-9DD1-B72DFFEF4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001E-8420-4E56-950B-32A1017B3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1135-2C47-4EC2-BAE5-7F456B787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BA77-EB39-4495-A14D-25F5A88D8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0498-A2F2-45A8-8857-9C4122AC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F2B2-261E-4DC2-BBD6-724444D5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3965-96AE-4429-B3FE-D973B91F0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3C1F-FEF3-4E29-BE01-E27485E70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E80B-090B-4ED8-8724-CC39642D2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C306-BE34-4BC2-9F43-0BAD1E706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B791-0476-456B-9D74-0E755B704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42B5-E7E6-4FF6-9838-A38A9958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FF37-BBA6-4891-8689-E6607EAF6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7E66-1883-4749-8404-DD92E621E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AC98-B817-4D7C-AA18-2F4FDC479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1A4A-3355-44E0-8882-F64C73291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A68A-A3D6-4258-851B-16D3BC9F2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A8B5-8811-4445-9765-72D2F987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15A7-7855-4892-9F1A-54B6B8CB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8F3-3E6A-4591-8ACF-5568460E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87DC-5700-48A2-A2A7-96DB5A64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CAAA-5749-4A14-B85B-EAD09827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E470-4A1D-4919-9426-1F45ADF80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18B-38FB-4052-A774-A6B936E72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BD52-1323-4F14-95A7-2B6AF7DA5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6802-9565-4A83-953E-B05CC3B1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D305-51BE-4CB9-A541-748BEB53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936D-6BFF-4D12-8874-1B4EB4A9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6097-6D7C-4CAD-9E12-3F1E7FBA7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840-504E-4ABA-ADA4-58F3A78B1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A6AF-1375-4248-8589-9E731FCCC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9926-2091-4EF7-B6D7-801152E79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922A-072A-4AE9-9CBB-F06695198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B633-D294-408C-8BE2-A04863CC4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BC6C-5B5B-42AD-8071-D8C883E9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6EFB-CCBA-45B4-954C-1D2ECB2AF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402E-862B-419E-AB28-7BC12A7BC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6D8A-76D8-421E-8080-3DDD5F7F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14EE-9426-4FD7-BEFE-B92AC00A3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C0E4-74AB-4428-834B-213F823AC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EDAF-CA1E-4DAB-B66D-79639370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8853-61DA-4A98-BE95-6D729E4A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DB21-9DD7-441C-A238-CDB99B237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354-0370-41DB-8E90-7B12A290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35D-7882-4045-8D40-CF7F1A88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94BDC-46C4-44AE-B003-4929A48B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1F342-6A52-4A9C-846D-B2117EFC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86950-E1F0-4562-B1C2-9C36ED9D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CB96D-CB7D-42CA-B30C-ADBACC02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5B958-027D-4E7C-A4E3-61671102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AC303-F337-40C4-823B-F2C93794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13132-C400-483B-BCCB-6B27FDDD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FDA66-7417-4392-97F7-10FF8C1D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87CF5-42FF-4710-A9DB-FE8D2D78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10B59-2788-4C59-B0C4-EC76B918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639-E4F2-40EB-B9DB-725D703F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C327D-6199-4317-9C5B-59E4B15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06557-5160-443F-A7B7-5D6E0279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D1385-60A1-480E-958C-CDA2278D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381AA-903C-4A26-8071-22BFE40E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12F4F-C2BB-4081-AE10-A609A1E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DF076-A2BC-4091-B084-5DAC2C8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CE2B5-6322-4D1D-9E7A-C476A1C9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7EB7C-987C-44AE-A940-C2E5580E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10254-DD1D-4690-BF13-C7A89A60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A2829-8469-417E-BC7F-B2E60724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CA7-D5F9-4DE2-BB0F-5C4B1059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0F251-DEC4-4687-916D-BDA6B262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ECE9-0570-4895-920F-7AAA00C3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EB0B-A2DA-48A5-BE87-A523E14A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119A-8486-4298-A175-8426D03D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307D-051E-4EA6-BABA-49D995B8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CCDF-00CF-4234-9100-7BD37F2E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5305-F885-4B75-ADF7-4F810177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3A36-315C-4987-84D4-C3A92D8E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AC9-7FEB-4318-A877-436BB4B9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F1D3-17BF-4233-AEF4-D7AD932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15D6-E8C6-425E-8025-E9479DE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0094-E5A2-42A9-A5B7-8EB156A5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50FF-9D07-4BAB-86EE-95B0E4D9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1F4F-0EA3-4D86-8CFB-C71DBD1A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6B19A-942E-465C-A79C-6FE802B0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B510-EF4C-450E-B3A0-497163E9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F65B-5384-403F-81F1-3B8B93B8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E9CB-AB48-4E41-941D-F5A29D1A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C8D5-A5D8-48F4-8C5A-1C6B13CF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4C2-3182-4651-8C61-88536A3E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3940-B228-4BB2-9272-26240AA7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F6FC-237E-4B38-B657-2531C21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4B71-B89D-486B-8853-627DBCE1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243E-0951-456F-A12B-19026C20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AB65D-FA46-4AE0-87D5-BDFD5878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035BB-AAB4-44EE-B353-CBE26E9A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43C67-1B98-4BD5-97DD-27BDFD88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CF4E-34FA-481D-B61B-572346B4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E9A5-55F1-4D9F-8993-0CDEC1E2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2FC7-6DB1-4304-A9A7-DCFB56C7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00F-8705-4583-B87D-273600E5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9D69F-FBC3-4FD6-98DD-AE18A7B3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9DF2A-45C3-404D-A4BA-06DC2860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ACD0-FA4C-4872-81C0-4CE7338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57866-985A-496C-8543-1765C8DF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8327-C3B1-47CC-A92F-DFBBB03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9E5F-0B3D-44D9-B15D-59E0126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95E9-8917-473B-81DF-CBE2DC44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A752F-36FC-4774-ADFB-99B3173A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6555-4E49-42FB-83EF-A7867C98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0DDC-91B8-445E-A9CA-4DB4F9C1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9EF-CE29-4C27-8354-863223FB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9CCA-4F1E-4AF9-8883-E483CD0E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DFDBF-5384-47CA-9177-B7EAE1DC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04FC8-FCE6-478A-9667-8134DFA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C120E-C00C-42F0-8268-4D826DDA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FEADE-F13A-4EC3-8FBE-DA0E502A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7B4E8-4931-4EE8-B27E-82B0125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640E9-1FF7-4D24-B760-4B74518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00F8-C9A0-4F0E-A1D5-064182E9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73E1D-A679-4DB1-B922-D5EB6AE8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47348-B847-44CD-BA4D-D599EC49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305-0C90-477D-974F-E7EFAAA2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AE3BE-E9D4-4E07-878B-070214E1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D3564-EAF2-45F0-A62C-A95127F2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5E6B-0EB4-4D2F-BE03-629826AF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6081B-574B-4773-9206-FB859235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47EC5-6412-489D-95E7-C6D5E6D2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653D6-0AE0-45A5-BA29-50579783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E778F-D822-4363-9F65-2D4D6889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145CD-DA1B-42BC-A646-FFC7B751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82BA5-FF90-429B-BC7E-5BDFA66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8A2A3-02F5-402B-BDAC-64FF026D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E07-4FBF-401D-AC50-90E312A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1827E-F3C9-4227-A9DE-B3C293A4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31C71-2179-42BC-BCD7-524424CB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14452-BA3C-4365-B55F-ECE6C14E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0E908-1652-46A9-9246-4FB2CF70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8991-7E4A-4F62-B9A2-AAF8ACC4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E6166-4D43-498A-B1D8-206E3A5A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24128-2D9A-4785-8145-17563DAF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F758-80F4-452B-B34F-6DFDE572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95EA-6194-43D0-A6FE-A30F2CD9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CFF16-9C4C-4892-9960-42452EBF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782-41A3-40E2-A404-6706E687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9CBB-964D-436F-8271-456D8C63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ADA0C-6089-4920-B602-354D963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7951-D6AA-4C70-95BA-A8315CAA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9D90E-3F91-4FEA-BF78-F151C109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D1403-37CD-4880-83EF-9D22441E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02FEC-A8A3-4FA3-BCBA-8757337C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B1AF1-3F8E-4610-9C97-55146548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30B4D-3B76-45B7-B277-316FBE04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2F7C5-7E20-4AF1-85D6-703E3499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6B05C-23D1-4BBB-8772-D2820F51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01F-A9B1-4D89-BAF9-7300D652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3E038-949D-46E1-A21B-E8C837D2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5F6B3-981B-45CC-978C-8AD3C37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6A0F7-003E-458A-9645-FD6E8E2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82F8E-5073-4B45-834A-B9C5A88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7091F-91E4-4AAF-AFAC-C4F8E2C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D2FE7-2128-4A9C-B035-347E9EE6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4A420-803A-414F-A23A-6AB2E283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83331-D128-460A-868E-E74D4D73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6CEB5-B7F0-4630-B504-180FFE97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96384-EBD1-4635-9DCB-BDF42ADD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16E-BEB1-47F2-9A23-832395A4F4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B2B1-4D3D-4F0A-B33A-B116D844DA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A003-65D9-4001-8944-2B96F32C88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516C-E952-4B9A-8167-CB0A29F938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D7FB-B069-4583-B211-07DD71C9ED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AD8D-22A8-4EBA-AC3C-6517B87B3F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67E7-901C-47DB-A5F9-014E7635E4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1959-B98E-4C8F-8072-F1BE95633A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C33E-9423-4BE8-95F8-67B9752907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F918-63A4-4DA9-8884-DA0A18FCE3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stopbullyingnow.hrsa.gov/" TargetMode="External"/><Relationship Id="rId2" Type="http://schemas.openxmlformats.org/officeDocument/2006/relationships/hyperlink" Target="http://www.targetbully.com/" TargetMode="External"/><Relationship Id="rId3" Type="http://schemas.openxmlformats.org/officeDocument/2006/relationships/hyperlink" Target="http://www.backoffbully.com/" TargetMode="External"/><Relationship Id="rId4" Type="http://schemas.openxmlformats.org/officeDocument/2006/relationships/hyperlink" Target="http://www.dac.neu.edu/cp/mspa/html1/mspa32.htm" TargetMode="External"/><Relationship Id="rId5" Type="http://schemas.openxmlformats.org/officeDocument/2006/relationships/hyperlink" Target="http://www.nea.org/schoolsafety/bullying.html" TargetMode="External"/><Relationship Id="rId6" Type="http://schemas.openxmlformats.org/officeDocument/2006/relationships/hyperlink" Target="http://www.clemson.edu/olweus/index.html" TargetMode="External"/><Relationship Id="rId7" Type="http://schemas.openxmlformats.org/officeDocument/2006/relationships/hyperlink" Target="http://www.mentalhealth.samhsa.gov/15plus/" TargetMode="External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pproximately 30 percent of students are regularly involved in bully, either as bullies or both (National Resource Center for Safe Schools, 2001;National Institutes of Health, April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pproximately 15 percent “severely traumatized or distressed” and eight percent report being victimized at least once a week (Skiba &amp; Fontanini, 2000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lying occurs once every seven minutes (Bureau of Justice Statistics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61.6% of students who are bullied are picked on because of their looks or speech (U.S. News &amp; World Report, May 7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very day approximately 160,000 students stay home from school because they are afraid of being bullied (Vail, 1999; Banks, 2000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ullying peaks in sixth through eighth grades (Office of Juvenile Justice and Delinquency Prevention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omicide perpetrators more than twice as likely as homicide victims to have been bullied by peers (U.S. Department of Education and Justice, 2001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 sure the books, videos, and other resources selected for children are developmentally and age-appropriat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ook for materials that explain and illustrate the many forms that bullying can tak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elect materials that show boys AND girls involved in bully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ook for materials that suggest or show appropriate and realistic solutions to bullying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Look for materials that have won awards or received positive reviews by professionals, parents, children, or youth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clear definition of bully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statement that clearly says bullying is unacceptab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ositive conflict resolution, caring and respect is valu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description of how the school proposes to deal with bullies and victi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couragement for students and parents to share concer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ool climate shapes student behavior and lear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dentify the components of strong school climate and how they affect student behavior and learn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ange school culture to support productive student behavior and effective learn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mentorships and other relationship-based strategies to promote productive student behavi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 a school-wide productive behavior syst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chool Level Interventions (entire school populatio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stablish a bullying prevention coordinating committe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dminister an anonymous questionnaire surve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old a school conference da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mprove supervision and outdoor environmen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nvolve paren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assroom Level Interventions (entire classroom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stablish classroom rules against bully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reate positive and negative consequences of bullyin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Hold regular classroom meeting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Meet with paren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dividual Level Interventions (specific students involved in bullying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erious talks (with possible referral to therapy) with students who bully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erious talks (with possible referral to therapy) with students who are victimize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nvolve the parent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hange of class or schoo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219240" y="103320"/>
            <a:ext cx="847404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lly Victimization Scale (BV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lly Victimization Distress Scale (BVD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hool Violence Anxiety Scale (SVA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wearer, S. M. &amp;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Love, K. B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(in press). Review of the Reynolds Bully-Victim Scale for Schools. In B. S. Plake &amp; J. C. Impara (Eds.),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The Fifteenth Mental Measurements Yearbook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. Lincoln, NE: Buros Institute of Mental Measurement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lweus Bully/Victim Questionnaire (Solberg &amp; Olweus, 2003; Olweus, 1994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Bully Surveys (Swearer, 2001; Swearer &amp; Cary, 200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Overview: Furlong, M., Greif, J., &amp; Sharkey, J. (March, 200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Assessing violence in our schools: Bullying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. Presentation at annual meeting of the National Association of School Psychologists, Atlanta, GA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eps to Respect (Committee for Child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lweus Bullying Prevention Progr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lly Busters (Horne et al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ffective Behavioral Suppo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219240" y="103320"/>
            <a:ext cx="847404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Look at behavior that contributes to bully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Improve social skill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Assertiveness train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onflict resolu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Stress managemen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4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510760" cy="115272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gular consultation and communi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vide information about the effects of bully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ising parents of possible consequences of their children bringing valuable items to schoo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viting parents to plays/dra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Picture 7" descr="MCj02975750000[1]"/>
          <p:cNvPicPr/>
          <p:nvPr/>
        </p:nvPicPr>
        <p:blipFill>
          <a:blip r:embed="rId2"/>
          <a:stretch/>
        </p:blipFill>
        <p:spPr>
          <a:xfrm>
            <a:off x="5487840" y="2130480"/>
            <a:ext cx="3043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Rectangle 4" descr=""/>
          <p:cNvPicPr/>
          <p:nvPr/>
        </p:nvPicPr>
        <p:blipFill>
          <a:blip r:embed="rId1"/>
          <a:stretch/>
        </p:blipFill>
        <p:spPr>
          <a:xfrm>
            <a:off x="219240" y="55440"/>
            <a:ext cx="8821440" cy="137664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rvey metho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rpreting and presenting da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ata-based decision-mak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oys tend to be more direct and girls more indirect (National Resource Center for Safe Schools, 1999; Crick &amp; Grotpeter, 1995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oys engage in bullying more frequently than girls (Banks, 2000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oys tend to bully both boys and girls (Hoover &amp; Oliver, 1996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rls tend to target other girls of the same age and take the form of teasing and social exclusion (Olweus, 2002; Nansel et al., 2001; Underwood, 2003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irls are more likely to bully in a group (Kreidler, 1996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llying by girls is often more subtle and harder to detect (NRCSS, 1999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4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510760" cy="1152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 frequently students have been bullied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ays it which it happe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ow often bullying occur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om the victims tel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at action was taken and by whom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here bullying takes place (provide maps of the school and grounds ask to highlight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3" name="Picture 7" descr="MCPE01837_0000[1]"/>
          <p:cNvPicPr/>
          <p:nvPr/>
        </p:nvPicPr>
        <p:blipFill>
          <a:blip r:embed="rId2"/>
          <a:stretch/>
        </p:blipFill>
        <p:spPr>
          <a:xfrm>
            <a:off x="5013360" y="2112840"/>
            <a:ext cx="33084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Rectangle 2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510760" cy="11527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MCBD06627_0000[1]"/>
          <p:cNvPicPr/>
          <p:nvPr/>
        </p:nvPicPr>
        <p:blipFill>
          <a:blip r:embed="rId2"/>
          <a:stretch/>
        </p:blipFill>
        <p:spPr>
          <a:xfrm>
            <a:off x="1219320" y="2054160"/>
            <a:ext cx="2590560" cy="24955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o in private, but visible to oth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ake notes after the interview is ov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lain the need for disclosure if necessa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fy how often bullying is occurr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artner with university researchers to conduct an assessment of bullying behavio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2. Conduct a school-wide anonymous assessment of bullying behavior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3. Include multiple informant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4. Use self-report, other report, observation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5. Graph data to create a picture of the scope of bullying in your school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6. Use data to conduct classroom presentations on bully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Rectangle 2" descr=""/>
          <p:cNvPicPr/>
          <p:nvPr/>
        </p:nvPicPr>
        <p:blipFill>
          <a:blip r:embed="rId1"/>
          <a:stretch/>
        </p:blipFill>
        <p:spPr>
          <a:xfrm>
            <a:off x="176040" y="85680"/>
            <a:ext cx="8676000" cy="1382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. Use the data to create interventions for bully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. Use the data to establish preventative measures to create an antibullying clim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9. Share data with parent groups (e.g., PT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. Create a data-based decision-making climate through the use of individual school data to help guide prevention and intervention programm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176040" y="85680"/>
            <a:ext cx="8676000" cy="1382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ake comparisons over tim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ort changes as percentages if the two groups differ in siz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heck trends against whole-school or part-school survey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re there discrepancies between what is reported and number of incidents recorded by staff?  (If so, school’s response system will need reviewing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Espelage, D. L. &amp; Swearer, S. M. (2004). </a:t>
            </a: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Bullying in American schools: A social-ecological perspective on prevention and intervention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Mahwah, NJ: Lawrence Erlbaum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Smith, P. (2004).  </a:t>
            </a: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Bullying-Don’t suffer in silence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Goldsmiths College, University of London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291960" y="285840"/>
            <a:ext cx="8345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eets the criteria for a proven program in th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lueprints for Violence Preven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Elliott, 1999)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uccessfully replicated internationally (e.g., Whitney, Rivers, Smith, &amp; Sharp, 1994) and in the United States (Melton et al.,1998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ollows a whole-school multilevel approach that includes core components targeting several levels of the school ecology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mplementation issues across different school ecologies are discusse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enter for the Study and Prevention of Violenc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Institute of Behavioral Scienc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University of Colorado at Bould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Boulder, CO 80309-044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303) 492-846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Colorado.EDU/cspv/bluepr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6" name="Rectangle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Rectangle 2" descr=""/>
          <p:cNvPicPr/>
          <p:nvPr/>
        </p:nvPicPr>
        <p:blipFill>
          <a:blip r:embed="rId1"/>
          <a:stretch/>
        </p:blipFill>
        <p:spPr>
          <a:xfrm>
            <a:off x="749160" y="450720"/>
            <a:ext cx="8113680" cy="1158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BullyBusters Book Cover"/>
          <p:cNvPicPr/>
          <p:nvPr/>
        </p:nvPicPr>
        <p:blipFill>
          <a:blip r:embed="rId2"/>
          <a:stretch/>
        </p:blipFill>
        <p:spPr>
          <a:xfrm>
            <a:off x="2971800" y="1981080"/>
            <a:ext cx="3238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tervention and prevention program designed specifically for the middle school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lassroom-level program addresses the essential components of the school ecology that are responsible for chan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Focus on teacher education and trainin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iffering implementation methods facilitate the needs of different school ecologi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www.researchpres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64646"/>
                </a:solidFill>
                <a:latin typeface="Arial"/>
                <a:ea typeface="Times New Roman"/>
              </a:rPr>
              <a:t>Steps to Respect</a:t>
            </a:r>
            <a:r>
              <a:rPr b="0" lang="en-US" sz="4400" spc="-1" strike="noStrike">
                <a:solidFill>
                  <a:srgbClr val="464646"/>
                </a:solidFill>
                <a:latin typeface="Arial"/>
                <a:ea typeface="Times New Roman"/>
              </a:rPr>
              <a:t> (Committee for Childre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ll three phases are in place, your school will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6464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chool policies and procedures for addressing bully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6464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who are trained to recognize and deal with bullying when it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46464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 have learned how to recognize, refuse, and report bully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essive outcome d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velopmental Psych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05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hool Psychology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submi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bystander_title"/>
          <p:cNvPicPr/>
          <p:nvPr/>
        </p:nvPicPr>
        <p:blipFill>
          <a:blip r:embed="rId1"/>
          <a:srcRect l="45832" t="0" r="11998" b="0"/>
          <a:stretch/>
        </p:blipFill>
        <p:spPr>
          <a:xfrm>
            <a:off x="3124080" y="515880"/>
            <a:ext cx="2743200" cy="5716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gatively affected when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llying occu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63560" indent="-30636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Become anxious and more fearfu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63560" indent="-30636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Lucida Sans Unicod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uld follow a bully’s lead in helping  to victimize another studen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63560" indent="-30636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Lucida Sans Unicode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f they do not see negative consequence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6356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r the bully, bystanders may be more likely to use aggression in the fu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953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Picture 4" descr="bystander_character"/>
          <p:cNvPicPr/>
          <p:nvPr/>
        </p:nvPicPr>
        <p:blipFill>
          <a:blip r:embed="rId2"/>
          <a:stretch/>
        </p:blipFill>
        <p:spPr>
          <a:xfrm>
            <a:off x="5715000" y="1752480"/>
            <a:ext cx="23623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685800" y="609480"/>
            <a:ext cx="77724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46"/>
                </a:solidFill>
                <a:latin typeface="Arial"/>
              </a:rPr>
              <a:t>Order Infor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5800" y="19810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Committee for Children toll-free: 800-634-4449, ext. 622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:00 a.m.–4:30 p.m. Pacific Time, Monday–Fri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fchildren.org/str/strindex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4"/>
          <p:cNvSpPr/>
          <p:nvPr/>
        </p:nvSpPr>
        <p:spPr>
          <a:xfrm>
            <a:off x="609480" y="1676520"/>
            <a:ext cx="8077320" cy="0"/>
          </a:xfrm>
          <a:prstGeom prst="line">
            <a:avLst/>
          </a:prstGeom>
          <a:ln w="38160">
            <a:solidFill>
              <a:srgbClr val="ff8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Research-based program; research-based mod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cludes a module on bully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User-friend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uy-in issues are addressed fir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omprehensive: Grades 1-3; 4-5; 6-7; 7-8;8-9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U.S. Department of Education Office of Safe and Drug-Free Schools “Exemplary Program.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7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5773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Lucida Sans Unicode"/>
              </a:rPr>
              <a:t>Second Step: A Violence Prevention Curriculum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2203 Airport Way South, Suite 500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eattle, WA  98134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(800) 634-4449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http://www.cfchildren.or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9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 philosophy, not a progra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ssential components: discipline plan, positive climate campaign, gentle warrior, reflection tim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cludes parent worksh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ddresses the school’s unique ecolog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mpressive outcome dat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5345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The Peaceful Schools Project.”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http://www.backoffbully.com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64646"/>
                </a:solidFill>
                <a:latin typeface="Arial"/>
              </a:rPr>
              <a:t>R.E.S.P.E.C.T. </a:t>
            </a:r>
            <a:r>
              <a:rPr b="0" lang="en-US" sz="6000" spc="-1" strike="noStrike" baseline="30000">
                <a:solidFill>
                  <a:srgbClr val="464646"/>
                </a:solidFill>
                <a:latin typeface="Arial"/>
              </a:rPr>
              <a:t>2</a:t>
            </a:r>
            <a:br>
              <a:rPr sz="6000"/>
            </a:br>
            <a:r>
              <a:rPr b="0" lang="en-US" sz="6000" spc="-1" strike="noStrike">
                <a:solidFill>
                  <a:srgbClr val="464646"/>
                </a:solidFill>
                <a:latin typeface="Arial"/>
              </a:rPr>
              <a:t>(</a:t>
            </a:r>
            <a:r>
              <a:rPr b="0" lang="en-US" sz="4800" spc="-1" strike="noStrike">
                <a:solidFill>
                  <a:srgbClr val="464646"/>
                </a:solidFill>
                <a:latin typeface="Arial"/>
              </a:rPr>
              <a:t>www.respect2all.or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Empowerment for Students, Parents, Educators &amp; Community Through Thea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a community collaboration to build healthy relationships among children and youth through thea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Lucida Sans Unicode"/>
              </a:rPr>
              <a:t>Bullying Behavior: Current issues, research, and interventions.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Edited by Geffner, R. A., Loring, M. T. &amp; Young, C. (2002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ublished by The Haworth Press, In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0 Alice Stree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inghamtom, NY 13904-1580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-800-895-058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ww.HaworthPress.c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7" name="Rectangle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Lucida Sans Unicode"/>
              </a:rPr>
              <a:t>Bullying, Peer Harassment, and Victimization in the Schools.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Edited by Elias, M. J. &amp; Zins, J. E. (2002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ublished by The Haworth Press, In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0 Alice Stree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nghamtom, NY 13904-158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-800-895-058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ww.HaworthPress.co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9" name="Rectangle 2" descr=""/>
          <p:cNvPicPr/>
          <p:nvPr/>
        </p:nvPicPr>
        <p:blipFill>
          <a:blip r:embed="rId1"/>
          <a:stretch/>
        </p:blipFill>
        <p:spPr>
          <a:xfrm>
            <a:off x="133200" y="-109440"/>
            <a:ext cx="8560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 Unicode"/>
              </a:rPr>
              <a:t>Resilient Classrooms.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Doll, B., Zucker, S., &amp; Brehm, K. (2004)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blished by The Guilford Pres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2 Spring Stre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w York, NY  10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ww.guilford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1" name="Rectangle 2" descr=""/>
          <p:cNvPicPr/>
          <p:nvPr/>
        </p:nvPicPr>
        <p:blipFill>
          <a:blip r:embed="rId1"/>
          <a:stretch/>
        </p:blipFill>
        <p:spPr>
          <a:xfrm>
            <a:off x="133200" y="-109440"/>
            <a:ext cx="85600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191120" cy="50292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1422360" y="5429160"/>
            <a:ext cx="65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rence Erlbaum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rlbau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ies with age—as students get older, they become more supportive of bullying and less likely to interve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irls tend to be more supportive of victims, but are not necessarily more likely to interve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ulture of silence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mith, P. (2005).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Bullying—Don’t Suffer in Silence.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oldsmiths College, University of London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Lucida Sans Unicode"/>
              </a:rPr>
              <a:t>And Words can Hurt Forever: How to Protect Adolescents from Bullying, Harassment, and Emotional Violence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(2002)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y James Garbarino and Ellen deLara. The Free Press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heras, P. L. with Thompson, A (2002). </a:t>
            </a:r>
            <a:r>
              <a:rPr b="0" i="1" lang="en-US" sz="4000" spc="-1" strike="noStrike">
                <a:solidFill>
                  <a:srgbClr val="000000"/>
                </a:solidFill>
                <a:latin typeface="Lucida Sans Unicode"/>
              </a:rPr>
              <a:t>Your Child: Bully or Victim? Understanding and Ending School Yard Tyranny.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New York: Fireside (Simon &amp; Schuster)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ully Dance” video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llfrog Fil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ox 14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ley, PA  1954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610) 779-822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b: www.bullfrogfilms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9" name="Rectangle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topbullyingnow.hrsa.go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targetbully.c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backoffbully.c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ttp:///www.pta.org/bullying/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http://www.dac.neu.edu/cp/mspa/html1/mspa32.ht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http://www.nea.org/schoolsafety/bullying.htm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http://www.clemson.edu/olweus/index.htm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http://www.mentalhealth.samhsa.gov/15plus/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boutbullying.as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1" name="Rectangle 2" descr=""/>
          <p:cNvPicPr/>
          <p:nvPr/>
        </p:nvPicPr>
        <p:blipFill>
          <a:blip r:embed="rId8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dults are often unaware of bullying problems (Limber, 2002; Skiba &amp; Fontanini, 2000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25% of teachers see nothing wrong with bullying or putdowns, and consequently intervene in only 4% of bullying incidents (Cohn&amp; Canter, 2002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tudents often feel that adult intervention is infrequent and/or unhelpful and they often fear that telling adults will only bring more harassment from bullies (Banks, 1997; Mullin-Rindler, 2003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1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219240" y="55440"/>
            <a:ext cx="8474040" cy="137664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tablishing school-wide bully prevention progra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stablishing school-wide anti-bullying polic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sessing school climat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our duty as educators to provide a safe school environment for all studen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y age 24, 60% of identified bullies may have criminal convictions (Banks, 2000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hildren who are repeatedly victimized sometimes see suicide as their only escap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ullying is the most underrated and enduring problem in schools today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any adults do not know how to intervene in bullying situations, therefore bullying is overlooke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motional scars can last a lifetim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6695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ssess your school’s needs and goa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elp develop an anti-bullying polic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vide training for teachers, administrators, and other school staff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volve par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dentify resources for bullies, victims, and famil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elp integrate anti-bullying themes and activities into curriculu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itiate conversations with students about bully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ncourage students to report incidents of bully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ork with students on developing assertiveness and conflict resolution skil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cus on developing empathy and respect for oth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School wide Prevention of Bullying, 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Northwest Regional Educational laboratory, December, 2001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107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13712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cus on the social environment of the schoo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ssess bullying at your school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Obtain staff and parent buy-in and support for bullying preven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eet regularly to review finding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ovide training for school staff in bullying preven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Establish and enforce school rules and policies related to bully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crease adult supervision in “hot spots” for bully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ntervene consistently and appropriately when you see bully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evote some class time to bullying preven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Limber, S. (2004). What works—and doesn’t in bullying prevention and intervention.</a:t>
            </a:r>
            <a:r>
              <a:rPr b="0" i="1" lang="en-US" sz="1500" spc="-1" strike="noStrike">
                <a:solidFill>
                  <a:srgbClr val="000000"/>
                </a:solidFill>
                <a:latin typeface="Lucida Sans Unicode"/>
              </a:rPr>
              <a:t> Student Assistance Journal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, 16-19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Garrity, Jens, Porter, Sager &amp; Short-Camilli (1996). Without intervention, bully problems will not go away” In </a:t>
            </a:r>
            <a:r>
              <a:rPr b="0" i="1" lang="en-US" sz="1500" spc="-1" strike="noStrike">
                <a:solidFill>
                  <a:srgbClr val="000000"/>
                </a:solidFill>
                <a:latin typeface="Lucida Sans Unicode"/>
              </a:rPr>
              <a:t>Bully–proofing your school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. Longmont, CO: Sopris West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219240" y="-30240"/>
            <a:ext cx="84740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9:27:22Z</dcterms:created>
  <dc:creator>IT</dc:creator>
  <dc:description/>
  <dc:language>en-US</dc:language>
  <cp:lastModifiedBy>Lynn</cp:lastModifiedBy>
  <dcterms:modified xsi:type="dcterms:W3CDTF">2010-11-18T01:38:19Z</dcterms:modified>
  <cp:revision>30</cp:revision>
  <dc:subject/>
  <dc:title>Preventing School Bullying: What is the School Psychologist’s Role?</dc:title>
</cp:coreProperties>
</file>